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D56-9EBB-428B-81BC-0E4C3873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C74-E67A-421F-B79B-ACE07978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55A-0CEF-4737-BF9A-F634FBEA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A79-7292-4B3F-A8B4-A98EA65D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DEBA-79DC-4519-A245-8471979E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0469-46CF-4747-950C-ECF39F7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2C4E-5798-4464-AB8A-EE638E5B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6DB5-555C-4B5C-9982-76E2566F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A9D8-9982-43E8-968A-3D808DB4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CA34-5E19-4E3E-8726-9FAAEFAA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6A59-1E03-4642-852C-E213D93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29F-BD11-42AD-9B4B-0A077C15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599B-C920-426B-ACDF-15360D9E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3FBC-4F5D-442E-A7E5-FD26E97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E26E-D03D-48DA-B70A-08E76657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09A6-C56F-440D-9092-2B25F465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2BBA-9189-48BD-9A22-023BAC40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09676-8572-4E76-B6E0-ACC8B67C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1BFFF-C942-4FC7-BB3F-55725D17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27940-3FA5-4742-B25A-A6895B62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EEEB3-1B41-4B51-8FAE-C575508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66392-8A38-48D7-97E3-665924EE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8CD-2264-47E8-B36A-F54695E1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2FDB7-64BD-4345-BF78-B8CD61B7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B6F0E3-8916-42FB-BDAF-B3298E6C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05B99-87C2-4CDC-A8A3-6DD5A2EF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A4EBE-4DA1-44EC-9115-E44CD203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B47C4-71CC-4CDB-B4C3-BA3B7B22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E3203-AB2F-4734-A71E-C183E4CB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515D9-79C0-4396-9D2D-5E7B4456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720F-0E59-4756-9A42-88BE69B2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BA16-8B7E-41BD-8DB4-B1D2410A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881E-12EB-44B2-9E7A-DCCFD6FC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F21-073E-4856-B997-2AE4369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C1A8-F2B9-44BA-80DB-1F929BDD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DC375-0DB2-4DFC-BC27-1A96AB2A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1A722-3B72-48D1-9C6B-9A09A770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E8A1-EF91-46CA-B8F7-F164EFCC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BC5B-C903-43D8-8F7E-F77C33D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FBA0-D37D-4F52-BBA6-642E50B7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BBDE-D720-41B1-A4CA-00E14045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BB698-51E0-471D-BC51-AF2F2755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B2FA-6E29-49D3-A69C-4D3E0E30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463C16-20EF-4DC7-8507-1DA8EAC6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AEF-D722-4CD0-8BCC-AAC99BE6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C58A29-B76A-4CF1-8C86-8A82776E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2D9E46-82F0-459E-A77B-5FFC8E82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5A6B2F-AC21-4E6E-AF27-4A195048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837AB7-F76F-42A8-B461-C562C635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08271D-A9F7-4015-911C-52801CCB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56A868-61A2-45BE-B8C6-6A395423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54F0E-8D9E-452E-A709-53737AF8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4FA2C3-0405-40B0-8EDA-C19D44E9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97EF62-980A-4CA5-9F7E-F8D41305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F984B9-77B9-48A8-9594-DD830547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158-A41E-41A5-AA45-4740B292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416A5A-C5D2-4BD4-9CAB-8A31B346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CB565-1BBD-4076-B151-C8D7B8D9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F1B685-8632-4F23-BE3C-38AB3DC5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B80549-9A3D-4A08-934F-8268AD9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0BE4B5-B153-4418-92F5-E084940E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82EDDC-F165-4F0B-A994-1BBD034C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88672E-C689-44A1-AD72-016B76E7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6F2731-6A72-4B81-8EF4-50EEC0C4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5CFAFD-2E56-47D9-8FF2-05F44762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1011E0-93DD-4A8B-A0EF-45A4A30B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7DA-CC29-4781-BDCF-43FBF9BE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B51D80-A34A-4923-80FE-42ABBFA8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E0944C-92AC-4BE6-A702-B0D0E128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906426-ACE8-4F92-850F-5FFEFE2E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8A6E3-FD0E-4865-9703-8DC529E5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23E14-29F6-471C-B45F-4ADDC574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A8459-DDF5-439E-8D54-0CB4C084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16DA0-11FF-423B-94B7-0E499FE1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95778-36AF-472A-8EA2-B1261BB9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E5C98-2EB1-43A4-9D71-6B89A929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E5C5A-DEC8-4795-B2F3-CA8AE292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B29-5148-4757-AE7E-4743A6A3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14BCC-4FB3-41D0-9703-866CD86F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BC193-CA7F-4758-99FA-2876DEB5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07987-711D-4481-BD35-B4CDEBC9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2F5AF-3E13-41D0-A73D-337C7936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7839B-4B8D-48AC-A8EB-BBABFC63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3ADE0-952B-4D69-8858-5683D839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F8C53-DE2A-4A44-8196-5AB90F41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E67DF-3E96-4053-BB5A-878B1824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0E2F1-ACA0-4212-8A49-14B2006A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6EF4D-9410-470D-A514-B48442BB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E68-8A69-4470-968A-F37F1F5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DB033-69E9-4044-8F51-A30A0A40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5339D-E01B-46ED-897D-718C0DC3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C9767-6373-48E1-A16B-6B946117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EA7D-C208-4671-B4CC-D5C4F94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3DB71-B3D7-4886-9D69-AD47B869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E9179-89E1-4FF2-AF90-0D8915CC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9AC60-5409-4EBD-A269-5F2CDFBA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ftr" idx="1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dt" idx="2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d0f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1333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>
            <a:lum bright="-42000"/>
          </a:blip>
          <a:srcRect l="28292" t="0" r="30589" b="0"/>
          <a:stretch/>
        </p:blipFill>
        <p:spPr>
          <a:xfrm>
            <a:off x="5376960" y="-19080"/>
            <a:ext cx="377964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4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5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24588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Num" idx="7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525C-0257-4AD8-B697-E4F624C63B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3360" y="1320480"/>
            <a:ext cx="613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df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bdf5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7885080" y="6244920"/>
            <a:ext cx="11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6FDD-057C-4376-A589-3FEC96EC0E4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245880" y="1341000"/>
            <a:ext cx="869148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13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EDBB-FBE6-433B-BA7E-F8A591F03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21240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6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10CA-8170-43F1-BE5D-90D796B681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title"/>
          </p:nvPr>
        </p:nvSpPr>
        <p:spPr>
          <a:xfrm>
            <a:off x="23400" y="3780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0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1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076A-5F94-46EB-97A4-B8CA99FC88A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2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3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A86A-BEFF-4262-8767-4BA093A8201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258920" y="1268280"/>
            <a:ext cx="7443720" cy="5281920"/>
            <a:chOff x="1258920" y="1268280"/>
            <a:chExt cx="7443720" cy="5281920"/>
          </a:xfrm>
        </p:grpSpPr>
        <p:sp>
          <p:nvSpPr>
            <p:cNvPr id="393" name=""/>
            <p:cNvSpPr txBox="1"/>
            <p:nvPr/>
          </p:nvSpPr>
          <p:spPr>
            <a:xfrm>
              <a:off x="1258920" y="1268280"/>
              <a:ext cx="6624720" cy="16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生的食物和熟的食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010200" y="6165720"/>
              <a:ext cx="269244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幼圆"/>
                </a:rPr>
                <a:t>整理者：浙江省建德市新安江第一小学 秦爱军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  <a:ea typeface="幼圆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1280" y="2205000"/>
            <a:ext cx="7416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仔细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及时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适时取出玉米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要用灯帽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盖灭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酒精灯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不要碰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铁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9079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实验提示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39640" y="189000"/>
            <a:ext cx="27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考考你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2" name=""/>
          <p:cNvSpPr/>
          <p:nvPr/>
        </p:nvSpPr>
        <p:spPr>
          <a:xfrm>
            <a:off x="4643280" y="83664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判断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349360"/>
            <a:ext cx="871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保证人体对营养的吸收，有的食物适宜生吃，有的食物适宜熟吃。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高温加热会破坏食物中的营养成分，所以食物应该以生吃为主。（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蛋白质和脂肪加热后，变得容易被人体消化和吸收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吃食物和熟吃食物各有优势和不足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6320" y="175680"/>
            <a:ext cx="18496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1052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食物中的（            ）和（        ）在加热后会发生变化，变得容易被人体（        ）和（         ），而且熟的食物比较松软，也容易被消化。但是食物在这样的加工过程中，营养会有一些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生的食物会保留自身的营养成分，特别是（        ）不会被破坏。所以采用生食的方法能够减少营养的损失，但是生吃食物一定要注意（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11280" y="0"/>
            <a:ext cx="6624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与实验，你有什么收获？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288120" y="3716280"/>
            <a:ext cx="2855880" cy="3141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0" y="3384720"/>
            <a:ext cx="4643280" cy="3473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rcRect l="30273" t="46794" r="32738" b="17901"/>
          <a:stretch/>
        </p:blipFill>
        <p:spPr>
          <a:xfrm>
            <a:off x="0" y="371628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076720" y="3670200"/>
            <a:ext cx="4067280" cy="31878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248000" cy="333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0" y="0"/>
            <a:ext cx="4476600" cy="3457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rcRect l="1760" t="3748" r="4438" b="8756"/>
          <a:stretch/>
        </p:blipFill>
        <p:spPr>
          <a:xfrm>
            <a:off x="0" y="3443400"/>
            <a:ext cx="4495680" cy="3414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4495680" y="3465360"/>
            <a:ext cx="4648320" cy="3392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rcRect l="17215" t="21181" r="20227" b="16929"/>
          <a:stretch/>
        </p:blipFill>
        <p:spPr>
          <a:xfrm>
            <a:off x="4467240" y="0"/>
            <a:ext cx="4676760" cy="34686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209680" y="2286000"/>
            <a:ext cx="624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79280" y="1773360"/>
          <a:ext cx="8496360" cy="3527280"/>
        </p:xfrm>
        <a:graphic>
          <a:graphicData uri="http://schemas.openxmlformats.org/drawingml/2006/table">
            <a:tbl>
              <a:tblPr/>
              <a:tblGrid>
                <a:gridCol w="1825560"/>
                <a:gridCol w="3287880"/>
                <a:gridCol w="3382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409" name=""/>
          <p:cNvSpPr txBox="1"/>
          <p:nvPr/>
        </p:nvSpPr>
        <p:spPr>
          <a:xfrm>
            <a:off x="468360" y="4762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与生的马铃薯比较，熟的马铃薯有哪些变化？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观察比较生、熟马铃薯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实验注意事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8560" y="2060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充分利用你们的感官去观察，比如通过看、闻、尝、摸等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使用小刀时一定要注意安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四人小组互相合作，边观察边记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实验完成后整理好实验器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836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龙葵素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它是一种对人体有害的生物碱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平时马铃薯中含量极微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一旦马铃薯发芽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眼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根和变绿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溃烂的地方龙葵素的含量急剧增高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可高出平时含量的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人吃了这种发芽的马铃薯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轻者恶心呕吐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痛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泻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重者可出现脱水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血压下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呼吸困难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昏迷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抽搐等现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严重者还可因心肺麻痹而死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268360" y="62064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发芽的马铃薯为什么不宜吃？</a:t>
            </a:r>
            <a:endParaRPr b="0" lang="en-US" sz="24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24000" y="333360"/>
            <a:ext cx="158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资料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603600" y="936720"/>
            <a:ext cx="5540400" cy="5921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24000" y="0"/>
            <a:ext cx="338436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烧烤玉米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332000" y="981000"/>
          <a:ext cx="6624720" cy="3384720"/>
        </p:xfrm>
        <a:graphic>
          <a:graphicData uri="http://schemas.openxmlformats.org/drawingml/2006/table">
            <a:tbl>
              <a:tblPr/>
              <a:tblGrid>
                <a:gridCol w="1422360"/>
                <a:gridCol w="5202360"/>
              </a:tblGrid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记录玉米粒到玉米花的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爆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1835280" y="26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从玉米粒到玉米花记录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07:09Z</dcterms:created>
  <dc:creator>xlzx</dc:creator>
  <dc:description/>
  <dc:language>en-US</dc:language>
  <cp:lastModifiedBy>微软用户</cp:lastModifiedBy>
  <dcterms:modified xsi:type="dcterms:W3CDTF">2010-02-19T10:22:12Z</dcterms:modified>
  <cp:revision>46</cp:revision>
  <dc:subject/>
  <dc:title>《生的食物和熟的食物》</dc:title>
</cp:coreProperties>
</file>